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195" spc="-1" strike="noStrike">
                <a:solidFill>
                  <a:srgbClr val="000000"/>
                </a:solidFill>
                <a:latin typeface="Arial"/>
              </a:defRPr>
            </a:pPr>
            <a:r>
              <a:rPr b="0" sz="2195" spc="-1" strike="noStrike">
                <a:solidFill>
                  <a:srgbClr val="000000"/>
                </a:solidFill>
                <a:latin typeface="Arial"/>
              </a:rPr>
              <a:t>Ezequiel Balbino</a:t>
            </a:r>
          </a:p>
        </c:rich>
      </c:tx>
      <c:layout>
        <c:manualLayout>
          <c:xMode val="edge"/>
          <c:yMode val="edge"/>
          <c:x val="0.387066503467972"/>
          <c:y val="0.020109993889228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10403916769"/>
          <c:y val="0.12065996333537"/>
          <c:w val="0.751203590371277"/>
          <c:h val="0.8391756013554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Ezequiel Balbino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09 março</c:v>
                </c:pt>
                <c:pt idx="1">
                  <c:v>2009 abril</c:v>
                </c:pt>
                <c:pt idx="2">
                  <c:v>2009 maio</c:v>
                </c:pt>
                <c:pt idx="3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6.96</c:v>
                </c:pt>
                <c:pt idx="1">
                  <c:v>30.83</c:v>
                </c:pt>
                <c:pt idx="2">
                  <c:v>91.41</c:v>
                </c:pt>
                <c:pt idx="3">
                  <c:v>97.5</c:v>
                </c:pt>
              </c:numCache>
            </c:numRef>
          </c:val>
        </c:ser>
        <c:gapWidth val="100"/>
        <c:overlap val="0"/>
        <c:axId val="27784872"/>
        <c:axId val="90619997"/>
      </c:barChart>
      <c:catAx>
        <c:axId val="277848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19997"/>
        <c:crossesAt val="0"/>
        <c:auto val="1"/>
        <c:lblAlgn val="ctr"/>
        <c:lblOffset val="100"/>
        <c:noMultiLvlLbl val="0"/>
      </c:catAx>
      <c:valAx>
        <c:axId val="90619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8487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91228070175439"/>
          <c:y val="0.45530803844230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351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101" spc="-1" strike="noStrike">
                <a:solidFill>
                  <a:srgbClr val="000000"/>
                </a:solidFill>
                <a:latin typeface="Arial"/>
              </a:defRPr>
            </a:pPr>
            <a:r>
              <a:rPr b="0" sz="3101" spc="-1" strike="noStrike">
                <a:solidFill>
                  <a:srgbClr val="000000"/>
                </a:solidFill>
                <a:latin typeface="Arial"/>
              </a:rPr>
              <a:t>Ezequiel Balbino 2009</a:t>
            </a:r>
          </a:p>
        </c:rich>
      </c:tx>
      <c:layout>
        <c:manualLayout>
          <c:xMode val="edge"/>
          <c:yMode val="edge"/>
          <c:x val="0.291379586604711"/>
          <c:y val="0.01994171761613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87261656786"/>
          <c:y val="0.145763099251471"/>
          <c:w val="0.731333119692357"/>
          <c:h val="0.81429632592423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3</c:v>
                </c:pt>
                <c:pt idx="1">
                  <c:v>120</c:v>
                </c:pt>
                <c:pt idx="2">
                  <c:v>138</c:v>
                </c:pt>
                <c:pt idx="3">
                  <c:v>120</c:v>
                </c:pt>
                <c:pt idx="4">
                  <c:v>42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7</c:v>
                </c:pt>
                <c:pt idx="1">
                  <c:v>37</c:v>
                </c:pt>
                <c:pt idx="2">
                  <c:v>117</c:v>
                </c:pt>
                <c:pt idx="3">
                  <c:v>117</c:v>
                </c:pt>
                <c:pt idx="4">
                  <c:v>288</c:v>
                </c:pt>
              </c:numCache>
            </c:numRef>
          </c:val>
        </c:ser>
        <c:gapWidth val="100"/>
        <c:overlap val="0"/>
        <c:axId val="85680360"/>
        <c:axId val="31510226"/>
      </c:barChart>
      <c:catAx>
        <c:axId val="856803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0226"/>
        <c:crossesAt val="0"/>
        <c:auto val="1"/>
        <c:lblAlgn val="ctr"/>
        <c:lblOffset val="100"/>
        <c:noMultiLvlLbl val="0"/>
      </c:catAx>
      <c:valAx>
        <c:axId val="31510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8036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71190514340651"/>
          <c:y val="0.40003428375521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90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7900A-38A0-4C06-AE7A-C4931E918D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5D0-7EE5-4CAB-9A4D-2E511CE2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6F6-7DBD-465F-AD04-9AC938E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81F-4991-454E-97DF-C066E94E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3B0-687A-447B-B658-60D4C3CC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D69-BA1C-43D0-A20E-7DEDCBB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9E1-B65B-49C3-B264-FBF386DF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249-A5A3-4CE8-B1B7-AABD04C2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827-27BC-451A-9A80-90E3C1EC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3280"/>
            <a:ext cx="9066240" cy="64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F15-1DF1-4C4D-BF47-150B485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4CF-75C8-4572-BED5-3FCE90D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247-977B-4DF4-A9DF-BFBCF9F4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724-7218-4414-8691-8A40064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E3FF7-EF6C-4820-990A-9DA71BD35C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6400" y="360360"/>
          <a:ext cx="8823600" cy="64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54040" y="539640"/>
          <a:ext cx="8986680" cy="630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